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1A8-496B-47C1-8DF2-81060065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96E-7EF8-4D5C-91A1-80B67AD1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EC8-73D1-4A5E-9CE1-82D30D1E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6E0-3B57-4428-9D1C-3375DD51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53C-7768-4BB0-B4AA-6F17E02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721-16FA-45AA-BB18-D2DC15BD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4C9-C2D5-4B87-A016-E75D775E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3C3-DFD7-4C5A-B218-0819AD9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46B-3194-4F13-90E9-3236DA1E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92C-BD63-4FDA-B48C-47FC1FF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003-F43A-46A9-BA2B-F0B4125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EFA-F3A1-4642-8677-BC326E0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A20-1C01-4068-AD64-0052E95B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r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u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itual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ader of the Sa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lack Haw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renter of Douglass during the time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Mr.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ner of the 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ou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ucky token given to Douglass by Sandy Jen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visiting Sandy the reason Douglass doesn’t get beat when he gets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It’s Su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glass’s skill that upset his m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Douglass hid Saturday when Covey chased him (before he ran into Jenk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corn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song that provided runaways with directions, times, and meetings places for e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re code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of Pharaoh in “Go Down Mo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slave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Chief Joseph’s trip towards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surr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Hawk’s purpose in insp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defend their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lements combined to make spirit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frican melodies/rhythms and elements of Southern religious 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money Mrs. Sommer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ifteen doll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objects Mrs. Sommers is going to buy at 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ems for her children (specifically hats, shoes, cloth for mending, stock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eling Mrs. Sommers has at the end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at she doesn’t want the day to end/to return to her norm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tems that she ate/drank at the fancy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oysters, a chop, a crème-frappe, wine,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pin’s most commonly used topic to wr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the stockings felt that symbolized e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erpent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writing that emphasizes a specific geographic setting and makes use of the speech and manners of the people in that reg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g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ubject of re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lums, factories, corrupt politicians, and pro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event that led to re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Civi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novel about the civil war (title and auth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 Badge of Cour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tephen C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ousewives and the constrains of life they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s in naturalism are limit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choice and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newspaper Douglass fou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th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pin’s most famou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wa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5-12-01T21:43:41Z</dcterms:modified>
  <cp:revision>42</cp:revision>
  <dc:subject/>
  <dc:title>No Slide Title</dc:title>
</cp:coreProperties>
</file>